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83BE-5260-4548-8EC7-83EC71796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flybase controlled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tment - groups of cells that don’t m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pato relational terms - used for annotations not for the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5DF-1833-48DE-90E3-05226885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2D1-BCDC-49E4-A79C-A0C965E8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3F3-E2CA-4F02-9B93-5710B861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CF1-ED0B-4402-801C-8E221175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A53-C0C2-4E16-83BE-1ABD66CF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D4A-744A-4EC6-A5DB-504E38C3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29B-B3B7-4600-A242-B3B2549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678-7E39-4FA9-923F-E7B4721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905-D1EA-4404-AAA9-DBE4DED9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EED-FC7C-4862-A2B7-1A078F11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12E-8CED-453D-8B13-64F96594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782-6B97-4CC2-8891-89348DD1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7C6-C84E-4FE9-961E-62E0427D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ttached_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oundary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a fide vs. fiat - when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6765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anatomical qual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terior margin of supraorbital b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SPO:anterior marg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TAO:supraorbit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n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modifiers for quality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ontal bone laterally compress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: front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TO:compress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as_ax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SPO:left/right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t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ors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xim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rro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tral_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cinity_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104920"/>
            <a:ext cx="42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relations and PATO spatial relational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_to: fia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752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xon tra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uro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520" y="2786040"/>
            <a:ext cx="4755960" cy="26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anatomical relation which holds between each anatomical structure of type A and some anatomical structure of type B such that each structure shares some part of its bona fide anatomical surface with that of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y’s definition (from obo-discuss): x is connected_to y if x and y share a fiat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hich holds between each anatomical entity of type A and some anatomical entity of type B such that there is no bona fide boundary between their contiguous constitutional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5400" y="1860480"/>
            <a:ext cx="4797720" cy="309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0520" y="62485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46483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5562720" cy="3057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+ bon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called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a fide boundar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4797360" cy="309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72240" y="1752480"/>
            <a:ext cx="2725560" cy="467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7680" y="59817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5480" y="60292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: top level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: top level di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grad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harac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terior margin of lateral ethmoi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0) straight, parallel to anterior edge of orbitosphenoid &amp; abruptly angled at midline; (1) broadly curved in ventral view, forming convex a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19520" y="3048120"/>
          <a:ext cx="2509560" cy="29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8120"/>
                    <a:ext cx="25095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9:11Z</dcterms:created>
  <dc:creator>Wasila Dahdul</dc:creator>
  <dc:description/>
  <dc:language>en-US</dc:language>
  <cp:lastModifiedBy>Wasila Dahdul</cp:lastModifiedBy>
  <dcterms:modified xsi:type="dcterms:W3CDTF">2008-05-19T18:55:25Z</dcterms:modified>
  <cp:revision>92</cp:revision>
  <dc:subject/>
  <dc:title>PowerPoint Presentation</dc:title>
</cp:coreProperties>
</file>